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4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BC6-CEA6-429C-96B2-C49787D5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326-E2BC-495D-AEC7-8ACC4D6A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DF1-71BE-4C25-A593-2E3493DD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826-5C5E-4AB0-88CB-AB28A39D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84C-36BE-4435-84E7-117469E1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F2A-164A-40F1-83A0-36E07B79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8C1-465D-48AE-ADA2-658A0B7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D83-4A61-49BA-98BC-6015641F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048-B2C2-42C2-BCC7-A4D5D892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9CC-78E6-4909-AF27-138F157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77A-312B-4922-BC62-3E6FE85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385-A92F-4DA7-9636-BCFE5F39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177-A01A-4ED4-A6AA-1F981438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Trip to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117600" cy="288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5599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6960" y="5410080"/>
            <a:ext cx="41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country you are vis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Festival Att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one about Festival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wo about Festival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hree about Festival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Festival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Festival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041560" cy="2023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festival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hopped 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shopping 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(s) purchased (minimum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each item purchased in my country’s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each item purchased in US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bout shopp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bout shopp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11970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s of items purchased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38880" y="1523880"/>
            <a:ext cx="13338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your sour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Fare t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Ti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Trave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rave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895480" cy="185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4267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relative picture related to trave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cy Exchange i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used i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 =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438280" cy="194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95680" y="3809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currency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el Accommo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ayed 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ccommodatio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ccommodatio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to stay in Hotel per night in 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to stay in Hotel per night in your country’s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1805040" cy="15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24280" y="3733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relative picture of your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fast a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der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reakfast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reakfast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170080" cy="227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breakfast from your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ch a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der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Lunch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reakfast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lunch from your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1049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ner a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der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inner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inner in US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D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D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dinner from your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1049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raveled around my country by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or daily travel in my country’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for daily travel in US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bout daily trav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bout daily travel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223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76920" y="4191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 of travel mode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site I visited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te Poi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te Poi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te Poi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Fee Cost in My Country’s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Fee Cost in US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232740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76920" y="4419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historical site visited from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20:03:39Z</dcterms:created>
  <dc:creator>Director Of Technology</dc:creator>
  <dc:description/>
  <dc:language>en-US</dc:language>
  <cp:lastModifiedBy>Director Of Technology</cp:lastModifiedBy>
  <dcterms:modified xsi:type="dcterms:W3CDTF">2008-12-16T14:11:49Z</dcterms:modified>
  <cp:revision>2</cp:revision>
  <dc:subject/>
  <dc:title>My Trip to …..</dc:title>
</cp:coreProperties>
</file>